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F59-0DFE-406A-BAC1-376B974B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B2C-FF30-4DF6-A5D4-6EC0293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D74-B328-49F9-8ACE-F87FD420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CB3-798F-4BE9-8C5D-78E62529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A59-0EE8-4F82-AAF6-CA9DCBEA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53B-C65E-4687-B270-68E4E4E6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382-A9AB-4928-A09B-920CAE9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CF4-C791-4351-B222-545B66C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666-3862-41A2-AB22-5E070D37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701-0A6D-43C0-9B89-2B97FC7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8AA-1E74-49E6-A8AE-76B6534C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B76-2E49-4323-BEC8-3B80DAE8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97B1-8DFC-45CF-BC85-72B67EAD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y the Earth affects our live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hy we have day and nigh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t what rotate mean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y it is cold at the po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another way the Earth moves besides rotating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at the four seasons are and when they a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y we have four different season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t if the sun appears higher or lower in the sky in the summer and wh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if the sun appears higher or lower in the sky in the winter and wh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5:10:14Z</dcterms:created>
  <dc:creator>Rutherford County Schools</dc:creator>
  <dc:description/>
  <dc:language>en-US</dc:language>
  <cp:lastModifiedBy>Rutherford County Schools</cp:lastModifiedBy>
  <dcterms:modified xsi:type="dcterms:W3CDTF">2007-04-21T15:27:28Z</dcterms:modified>
  <cp:revision>3</cp:revision>
  <dc:subject/>
  <dc:title>Slide 1</dc:title>
</cp:coreProperties>
</file>